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791-EBD9-4E90-A8D2-2F16E076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C5F8-A279-4E88-B2FB-3015BF6B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042-C95E-42C9-B090-94FAAD2B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DD6-0E66-4F42-B028-41DC2FF5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4BD2-F094-4D7A-B42B-8F32FBBD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9BF4-76D5-49CE-B3C9-34C7D461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C4EB-BAAE-4989-B4F9-7DBE0650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EE5C-132E-4668-90D8-03688760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3E26-4D37-41EF-B786-66DC8EBA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1B0B-29F5-40CE-9CFA-7AB41F4F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C413-7D8F-4AAF-AC57-D3A73B98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9FD-C348-439F-9199-BBED7F49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D391-9B17-4850-8164-E264D92D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A1CB-F20E-4C0A-9F58-76886C4A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2B7E-0647-4621-841B-5F0E9B0E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9EDF-3D11-4977-AC6D-8F1809F3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9240-0496-4AA3-8954-4D5EE2BB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2FDC-A6AF-4F48-80A3-1F0265F4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D35-58DA-4ACE-A64E-90390F5C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BDDB-FBBD-4501-A7DF-4FB102A1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C6A5-326B-49AE-880D-8E3BA395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2A3-7E28-47A8-8882-D4077141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F1B5-CCCE-42F3-B927-7CEBF4CF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9DB7-488A-42F1-B617-ADEB9584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b4fb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797b9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2549-A0D5-4B0C-BFF6-48EB905EF1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B8A2-B805-4C3D-A5AC-026BBB696B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797b9b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609480" y="19810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Las Comidas del D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í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: Makenna K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-2430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El Desayuno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05400" y="3687840"/>
            <a:ext cx="22291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Bradley Hand ITC"/>
              </a:rPr>
              <a:t>Los Panquequ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3733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El Toc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6172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radley Hand ITC"/>
              </a:rPr>
              <a:t>Los Huevos Revuel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470844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radley Hand ITC"/>
              </a:rPr>
              <a:t>El Jugo de Nara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5720" y="61563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La Sand</a:t>
            </a:r>
            <a:r>
              <a:rPr b="0" lang="en-US" sz="2000" spc="-1" strike="noStrike">
                <a:solidFill>
                  <a:srgbClr val="ffffff"/>
                </a:solidFill>
                <a:latin typeface="Bradley Hand ITC"/>
                <a:ea typeface="Arial"/>
              </a:rPr>
              <a:t>í</a:t>
            </a: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172200" y="1984320"/>
            <a:ext cx="2286000" cy="1596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38080" y="129528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Para el desayuno me gusta com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38080" y="4800600"/>
            <a:ext cx="1981440" cy="1327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324480" y="4654440"/>
            <a:ext cx="2114640" cy="1517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809880" y="2514600"/>
            <a:ext cx="142416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El Almuerzo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radley Hand ITC"/>
              </a:rPr>
              <a:t>Para el almuerzo me gusta come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6720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radley Hand ITC"/>
              </a:rPr>
              <a:t>Un Sándwich de Jam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120" y="2127240"/>
            <a:ext cx="2057400" cy="1544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38080" y="61722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La Manz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752840" cy="1900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553080" y="3657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El Yog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609588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5029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Una Limo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Home made Lemonade Recipe Home made Lemonade Recipe"/>
          <p:cNvPicPr/>
          <p:nvPr/>
        </p:nvPicPr>
        <p:blipFill>
          <a:blip r:embed="rId3"/>
          <a:stretch/>
        </p:blipFill>
        <p:spPr>
          <a:xfrm>
            <a:off x="3755880" y="3186000"/>
            <a:ext cx="1501920" cy="1766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943600" y="6095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radley Hand ITC"/>
              </a:rPr>
              <a:t>Las Galletas Oreo de O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229440" y="4648320"/>
            <a:ext cx="2000160" cy="1331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6400800" y="1962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76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La Cena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radley Hand ITC"/>
              </a:rPr>
              <a:t>Para la cena me gusta com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35956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radley Hand ITC"/>
              </a:rPr>
              <a:t>El Espague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3520" y="2108160"/>
            <a:ext cx="2209680" cy="147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914400" y="60800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El Pan de 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1733760" cy="17334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400800" y="61563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radley Hand ITC"/>
              </a:rPr>
              <a:t>Los Guis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72200" y="3565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Las Zanaho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172200" y="1828800"/>
            <a:ext cx="182880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781440" y="2629080"/>
            <a:ext cx="1581120" cy="1600200"/>
            <a:chOff x="3781440" y="2629080"/>
            <a:chExt cx="1581120" cy="1600200"/>
          </a:xfrm>
        </p:grpSpPr>
        <p:sp>
          <p:nvSpPr>
            <p:cNvPr id="186" name=""/>
            <p:cNvSpPr txBox="1"/>
            <p:nvPr/>
          </p:nvSpPr>
          <p:spPr>
            <a:xfrm>
              <a:off x="3781440" y="2629080"/>
              <a:ext cx="158112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324480" y="4343400"/>
            <a:ext cx="1730520" cy="1752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09880" y="4724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La Le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3711600" y="2789280"/>
            <a:ext cx="1393920" cy="185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26680" y="122400"/>
            <a:ext cx="32828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El Postre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radley Hand ITC"/>
              </a:rPr>
              <a:t>Para el postre me gusta come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6172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radley Hand ITC"/>
              </a:rPr>
              <a:t>Helado de Vaini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95280" y="4114800"/>
            <a:ext cx="860400" cy="1981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733920" y="493704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radley Hand ITC"/>
              </a:rPr>
              <a:t>Té de Me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708360" y="2438280"/>
            <a:ext cx="1625760" cy="2438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77120" y="1828800"/>
            <a:ext cx="1373040" cy="1828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324480" y="3718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radley Hand ITC"/>
              </a:rPr>
              <a:t>Rollo de Can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6248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La Tor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6400800" y="4419720"/>
            <a:ext cx="1828800" cy="1763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80880" y="3505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radley Hand ITC"/>
              </a:rPr>
              <a:t>Galletas con Chispas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62120" y="1925640"/>
            <a:ext cx="20574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08:20Z</dcterms:created>
  <dc:creator>klaymak</dc:creator>
  <dc:description/>
  <dc:language>en-US</dc:language>
  <cp:lastModifiedBy>klaymak</cp:lastModifiedBy>
  <dcterms:modified xsi:type="dcterms:W3CDTF">2011-04-15T17:15:24Z</dcterms:modified>
  <cp:revision>15</cp:revision>
  <dc:subject/>
  <dc:title>Las Comidas del Día</dc:title>
</cp:coreProperties>
</file>